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6576-298B-44DA-8524-FB58357A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63C8-1CFA-4330-B7DB-D8272D28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2BEA-9647-4A4D-AAAE-57842A69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1E78-BFF0-42D4-B4F9-01B398E8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20E7-CDE3-4D8B-9365-3C0EFA37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48BB-5B70-4D9B-9AE3-C54E7011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612A-476F-4C4E-B1E2-752FA003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8C86-9806-4923-BA50-51641EA1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AB8B-AFD1-4682-A6EF-E86D1A53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178B-6BC2-412F-8EE1-63D90AE9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7C50-F2C1-4428-B79E-BB275129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9D42-13B1-41F2-A826-C6B403DA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675A-F273-4C06-A35D-5FFC2F697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9640" y="22050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 of having a big hole of sewerage we can make the hole shallow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2637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 of chlorine we could insert artificial lights in the sewerage to kill the ge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1480" y="682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116000" y="692280"/>
            <a:ext cx="6912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osh and James’s new sewerage treatment pla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04:46:11Z</dcterms:created>
  <dc:creator>joshua.grove</dc:creator>
  <dc:description/>
  <dc:language>en-US</dc:language>
  <cp:lastModifiedBy>joshua.grove</cp:lastModifiedBy>
  <dcterms:modified xsi:type="dcterms:W3CDTF">2009-08-04T04:59:59Z</dcterms:modified>
  <cp:revision>5</cp:revision>
  <dc:subject/>
  <dc:title>Slide 1</dc:title>
</cp:coreProperties>
</file>